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04EF-BACB-4682-A76C-9C5FA006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8EAB-8C00-4418-B5F3-AFBE8ED0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DF64-AF22-434B-888F-85C81D62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52412-FBC6-44EC-88E9-75D38A83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6437-8D3B-40BA-BF26-F24EA669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149F-5C70-44EE-8390-7BBC747C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7587-3C45-4FB3-8459-565EB484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187B-9905-43FE-887E-DF8A4CB3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BBB3-F582-40B2-86B0-D0626E19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44DB-2DA8-47F3-97C4-A603D2E7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2BC5-BF9B-4E2C-8B87-577E1D7A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8E42-8310-4147-851C-15530AEB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5F25-3B5A-49A0-935A-93DB8D72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DCBE-B02A-4313-9EB0-0006FF72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4CA0-F5AD-4428-ACB3-20267575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7644-E1E2-4A7B-83C6-BA7219E9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4B7C-01DF-4B18-894A-90A061F7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F2E0-85EF-43A1-9413-82226FE1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74A1-AA56-4FA5-80B7-DE1B73DE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E8AE-0F26-40BE-9FDD-47B22480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9751-18C9-432D-8A33-2825691E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ECB7-BF49-4C53-9365-036C0D53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08E9-A7C8-4A7C-B3B9-B6F07F91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41E0-237F-42DC-B246-5188169C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B449-7772-4C1B-9C0C-03DC5B5B0DD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4AA8-3EF7-4CFE-B790-FA6F3EE2996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00000" y="2492280"/>
            <a:ext cx="720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Poznaj swój ro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341360"/>
            <a:ext cx="29509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 Black"/>
              </a:rPr>
              <a:t>Klas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148360" y="1484280"/>
            <a:ext cx="21430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 Black"/>
              </a:rPr>
              <a:t>I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6021360"/>
            <a:ext cx="31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Opracowa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Szymczyszyn Zbign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21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5832720" cy="343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1555920" cy="1814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32000" y="260280"/>
            <a:ext cx="6624720" cy="1657440"/>
          </a:xfrm>
          <a:prstGeom prst="wedgeRoundRectCallout">
            <a:avLst>
              <a:gd name="adj1" fmla="val -48037"/>
              <a:gd name="adj2" fmla="val 75958"/>
              <a:gd name="adj3" fmla="val 16667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ześć dzieciak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1197000"/>
            <a:ext cx="6480360" cy="2232000"/>
          </a:xfrm>
          <a:prstGeom prst="wedgeRoundRectCallout">
            <a:avLst>
              <a:gd name="adj1" fmla="val -64060"/>
              <a:gd name="adj2" fmla="val 17282"/>
              <a:gd name="adj3" fmla="val 16667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zedstawię w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1628640"/>
            <a:ext cx="5472360" cy="2303640"/>
          </a:xfrm>
          <a:prstGeom prst="wedgeRoundRectCallout">
            <a:avLst>
              <a:gd name="adj1" fmla="val -71726"/>
              <a:gd name="adj2" fmla="val -6374"/>
              <a:gd name="adj3" fmla="val 16667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onstrukcję rower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404640"/>
            <a:ext cx="6048360" cy="2089440"/>
          </a:xfrm>
          <a:prstGeom prst="wedgeRoundRectCallout">
            <a:avLst>
              <a:gd name="adj1" fmla="val -65694"/>
              <a:gd name="adj2" fmla="val 58740"/>
              <a:gd name="adj3" fmla="val 16667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 oto on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xit" presetID="21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xit" presetID="21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" nodeType="afterEffect" fill="hold" presetClass="exit" presetID="21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Rower jest urządzeniem mechanicznym, skonstruowanym przez człowieka, zatem mówienie o konstrukcji tego pojazdu nie powinno wydawać Ci się niczym dziwnym i nie</a:t>
            </a:r>
            <a:r>
              <a:rPr b="0" lang="pl-PL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zwykłym. Ten prosty z pozoru pojazd kryje w sobie wiele ciekawych rozwiązań konstrukcyjnych, które z pewnością warte są Twojego zainteresowania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57520" cy="1571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92160"/>
            <a:ext cx="2719440" cy="1536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443640" y="4797360"/>
            <a:ext cx="2700360" cy="17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91329E-006 L 0.72448 0.7341 E">
                                      <p:cBhvr>
                                        <p:cTn id="77" dur="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91329E-006 L -0.6691 0.0074 E">
                                      <p:cBhvr>
                                        <p:cTn id="79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08092E-006 L -0.63681 0.00693 E">
                                      <p:cBhvr>
                                        <p:cTn id="82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809880" cy="9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346560" y="2063880"/>
            <a:ext cx="4251240" cy="3238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1555920" cy="1814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71640" y="333360"/>
            <a:ext cx="4752720" cy="1008000"/>
          </a:xfrm>
          <a:prstGeom prst="wedgeRoundRectCallout">
            <a:avLst>
              <a:gd name="adj1" fmla="val -33865"/>
              <a:gd name="adj2" fmla="val 162282"/>
              <a:gd name="adj3" fmla="val 16667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ład jezd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549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300720" y="1413000"/>
            <a:ext cx="2230560" cy="11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2720" y="76500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ład kierownic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732720" y="4723920"/>
            <a:ext cx="1295280" cy="1009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36000" y="573408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ło jezd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987640" y="2421000"/>
            <a:ext cx="187164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2492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odeł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219280" y="1052640"/>
            <a:ext cx="86508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324240" y="1197000"/>
            <a:ext cx="4056120" cy="396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1555920" cy="1814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189000"/>
            <a:ext cx="3024000" cy="1439640"/>
          </a:xfrm>
          <a:prstGeom prst="wedgeRoundRectCallout">
            <a:avLst>
              <a:gd name="adj1" fmla="val -29319"/>
              <a:gd name="adj2" fmla="val 103143"/>
              <a:gd name="adj3" fmla="val 16667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kład napędo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843280" y="4076640"/>
            <a:ext cx="165744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300720" y="4005360"/>
            <a:ext cx="16560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995640" y="907920"/>
            <a:ext cx="14472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372360" y="328464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5013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łańc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00720" y="5373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ło zębate duż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24720" y="2708280"/>
            <a:ext cx="161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aniz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rb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333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ło zębate mał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4248000" cy="3745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555560" cy="1814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1628640"/>
            <a:ext cx="2592360" cy="1656000"/>
          </a:xfrm>
          <a:prstGeom prst="wedgeRoundRectCallout">
            <a:avLst>
              <a:gd name="adj1" fmla="val -23972"/>
              <a:gd name="adj2" fmla="val 91513"/>
              <a:gd name="adj3" fmla="val 16667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kład hamulcow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48360" y="981000"/>
            <a:ext cx="180000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62064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locki hamulc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6732360" y="2349360"/>
            <a:ext cx="1152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40720" y="234936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1555560" cy="1814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5280" y="1413000"/>
            <a:ext cx="2089080" cy="2016000"/>
          </a:xfrm>
          <a:prstGeom prst="wedgeRoundRectCallout">
            <a:avLst>
              <a:gd name="adj1" fmla="val -19833"/>
              <a:gd name="adj2" fmla="val 73541"/>
              <a:gd name="adj3" fmla="val 16667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mulec ręcz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5905440" cy="4176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780000" y="2060640"/>
            <a:ext cx="2952720" cy="2095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4000" y="1197000"/>
            <a:ext cx="2232000" cy="2376360"/>
          </a:xfrm>
          <a:prstGeom prst="wedgeRoundRectCallout">
            <a:avLst>
              <a:gd name="adj1" fmla="val -17212"/>
              <a:gd name="adj2" fmla="val 66365"/>
              <a:gd name="adj3" fmla="val 16667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mulec noż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48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555560" cy="1814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0920" y="1700280"/>
            <a:ext cx="3097080" cy="1728720"/>
          </a:xfrm>
          <a:prstGeom prst="wedgeRoundRectCallout">
            <a:avLst>
              <a:gd name="adj1" fmla="val -24421"/>
              <a:gd name="adj2" fmla="val 80027"/>
              <a:gd name="adj3" fmla="val 16667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kład oświetleniow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1268280"/>
            <a:ext cx="576360" cy="16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9079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mpa tylnia czerw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164000" y="1341360"/>
            <a:ext cx="144360" cy="115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105264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mpa przednia żół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716000" y="32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859280" y="3284640"/>
            <a:ext cx="720720" cy="27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48360" y="59500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n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592360" cy="2606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90920" y="333360"/>
            <a:ext cx="6302160" cy="3529080"/>
          </a:xfrm>
          <a:prstGeom prst="wedgeRoundRectCallout">
            <a:avLst>
              <a:gd name="adj1" fmla="val -60328"/>
              <a:gd name="adj2" fmla="val 42305"/>
              <a:gd name="adj3" fmla="val 16667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Dziękuj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uwag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981000"/>
            <a:ext cx="6193080" cy="2519280"/>
          </a:xfrm>
          <a:prstGeom prst="wedgeRoundRectCallout">
            <a:avLst>
              <a:gd name="adj1" fmla="val -53587"/>
              <a:gd name="adj2" fmla="val 57245"/>
              <a:gd name="adj3" fmla="val 16667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Bodźcie ostrożni na drodz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692280"/>
            <a:ext cx="5689440" cy="2520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6d4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Cześć 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21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xit" presetID="21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3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0751E-006 L 1.03958 -0.00093 E">
                                      <p:cBhvr>
                                        <p:cTn id="35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0:23:25Z</dcterms:created>
  <dc:creator>a</dc:creator>
  <dc:description/>
  <dc:language>en-US</dc:language>
  <cp:lastModifiedBy>a</cp:lastModifiedBy>
  <dcterms:modified xsi:type="dcterms:W3CDTF">2002-09-27T09:56:42Z</dcterms:modified>
  <cp:revision>8</cp:revision>
  <dc:subject/>
  <dc:title>Konstrukcja roweru </dc:title>
</cp:coreProperties>
</file>